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9DA-0F7E-47E5-8E60-CB5E33D0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7CB-EE3B-438E-9929-450E254D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ACA-DF94-4B3E-BF5C-79C5F6CE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22C-3188-41FF-BEE8-90258B0E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9CE-E9B6-4AE0-BE8A-F5A82718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0D5-132A-414A-AD00-7EC1DB48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E29-603F-47D8-B299-81377BA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999-6B47-4A07-8214-E7AC7E7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9FC-0601-4A84-988E-130A8696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1AE-C991-46EE-8E9E-55B38B81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570-439F-4A45-B12A-AA29DE8D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8D6-DE4F-4898-8999-27A6CA3C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CDAA3-AB64-42CE-8925-BD32CFFE5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s atoms into ions - oxi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"/>
          <p:cNvPicPr/>
          <p:nvPr/>
        </p:nvPicPr>
        <p:blipFill>
          <a:blip r:embed="rId1"/>
          <a:stretch/>
        </p:blipFill>
        <p:spPr>
          <a:xfrm>
            <a:off x="317520" y="1596960"/>
            <a:ext cx="8369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metal atoms into ions -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protons (+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electron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roup numb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lectronic structu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electrons transferre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protons (+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umber of electron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lectronic structure of 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arge of 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ses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,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"/>
          <p:cNvPicPr/>
          <p:nvPr/>
        </p:nvPicPr>
        <p:blipFill>
          <a:blip r:embed="rId1"/>
          <a:stretch/>
        </p:blipFill>
        <p:spPr>
          <a:xfrm>
            <a:off x="317520" y="1596960"/>
            <a:ext cx="8369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11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pro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neu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elec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7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7560"/>
                          <a:tab algn="l" pos="146196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48" name="TextBox 4"/>
          <p:cNvSpPr/>
          <p:nvPr/>
        </p:nvSpPr>
        <p:spPr>
          <a:xfrm>
            <a:off x="1192320" y="4164120"/>
            <a:ext cx="608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is a positive 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is a negative 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is a metal 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is an isotope of C-12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1:11:44Z</dcterms:created>
  <dc:creator>Nico Van De Casteele</dc:creator>
  <dc:description/>
  <dc:language>en-US</dc:language>
  <cp:lastModifiedBy>Nico Van De Casteele</cp:lastModifiedBy>
  <dcterms:modified xsi:type="dcterms:W3CDTF">2013-10-28T00:44:55Z</dcterms:modified>
  <cp:revision>3</cp:revision>
  <dc:subject/>
  <dc:title>PowerPoint Presentation</dc:title>
</cp:coreProperties>
</file>